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3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5BC-FC02-4687-B41E-19881F45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62E-CF42-4E04-9C5B-379939BA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52-1554-464D-BADB-E92B82F2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E79-A9B5-4F93-BABB-4496DA4E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2F4-98A1-49D2-896E-69076AC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F66-76D5-4C9D-BA1C-FEEFC3B3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2CB-F002-475C-91C4-7966A57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E1-1B87-410F-BF26-AE8BF7B5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3DD-4F83-4758-BA70-44B67170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8DA-9B62-47F4-B071-A1224AB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5D3-CA43-4379-A45C-166B145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2A2-D8E9-42AF-ADA8-9BD07B2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B14-0D23-4D73-BF89-AC67728E2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lposters.com/GetPoster.asp?APNum=1512179&amp;CID=8B54EB00DC98469A98796EC490A04086&amp;PPID=1&amp;search=23701&amp;f=c&amp;FindID=23701&amp;P=2&amp;PP=7&amp;sortby=PD&amp;cname=Honore+Daumier&amp;SearchID=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oellentor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8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Engli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Bloem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more money, Europe started looking for new places to get materials fro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moved into Africa, dividing it into colo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also gained some control in Asia and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ing over another country like this is called Imperialism… How do you think it effects the nations invol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lso a lot of call for reform, or change, at thi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was desired in the fac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women organized together in order to obtain the right to vote. This is called suffrage. However, no women were given the right at thi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ccessful Refor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ry was abolished in England in 1833 and in France in 184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United States the slaves were freed in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ree public education was granted to most European nations by the late 1800’s and in all of the American States by 187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we have reform movements now? Are there any specifically in Kansas 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ventions and Breakthroug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ity and the light bulb were inven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chine gun, photography, x-rays, aspirin, and antiseptics were just a few other inven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rench chemist named Louis Pasteur discovered that bacteria caused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omobile and telephone were invented as well, but they did not have their full impact until later in the centu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n you imagi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imagine how these inventions changed people’s everyday lives? What were some ways that life would have chan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were positive things that happened in this tim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neg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?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iterature that arouse out of this era was called Realism. It dealt with the accurate, or realistic, portrayal of life in liter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ists wrote in a detached manner. They were observing and recording facts. This is different from the emotional and imaginative Roma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having elaborate plots, Realists focused on everyday occurr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Realists were writing accurate portrayals of life, their works often did not have happy end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ave Courbet’s “The Stone Breaker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?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ts wrote about the daily struggles and disappointments of ordinary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acters in their writings were often peasants, businessmen, or housew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, even the upper-class characters were portrayed with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e Daumier P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The Third Class Carriage Giclee Print by Honore Daum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re Ar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1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The Gates of Hell, Musée Rodi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392256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terary movement called Realism started around the  1840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Realist writers were from Europe, especially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m eventually spread throughout the world and extended into literature and other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y?????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at was going o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Realist movement was taking place, the world was in a time of change and con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nyone have any ideas why this was tr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industrial revolution allowed the middle class to get richer, the working class was underpaid and overwor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were eventually passed to make working conditions better, but conditions were still horrend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that used to be made by hand could now be made much faster and cheaper by mach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think of anything that can be made much faster by a mach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s were built across Europe and carried goods from the factories to the c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railroads have helped to unite a n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l War and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ed States went through a Civil War from 1861 until 18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r was ended when President Lincoln issued the Emancipation Proclamation freeing the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uth was basically destroyed and many newly freed African Americans were trying to find their place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5840" y="230184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evelopment of 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ism, or the belief that people who share a common culture make up a nation, became pop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 groups began wanting to be seen as a nation and revolts took pla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ome place, like Germany, this eventually caused dictatorships and world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nationalism popular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8:53:16Z</dcterms:created>
  <dc:creator>Center School District</dc:creator>
  <dc:description/>
  <dc:language>en-US</dc:language>
  <cp:lastModifiedBy>user</cp:lastModifiedBy>
  <dcterms:modified xsi:type="dcterms:W3CDTF">2007-02-26T19:06:22Z</dcterms:modified>
  <cp:revision>6</cp:revision>
  <dc:subject/>
  <dc:title>Realism</dc:title>
</cp:coreProperties>
</file>